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12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13.wmf" ContentType="image/x-wmf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E38-2581-41BE-A6F6-48274A9B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209-E4A1-49A9-AC2B-5C909AA2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F1C-DD79-416E-900C-9FEF5027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D28-515D-4BFE-BE30-A8DF7464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452-EEE6-44C4-A3A3-ADAE5AED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40C-C31B-417F-AB01-8B6D3992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D97-1384-4BB9-9E47-53315A1B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85D-2B98-4C72-8004-B178A060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367-72D7-47F2-B7B3-2511476A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825E-BB57-4510-ACEA-4A5441A3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D3D-BE22-4EB0-95AD-9EA6BD52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0A5-CEE3-42BB-8453-490B8600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A07D-D1D6-4AC7-A051-ECE299725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50states.com/hawaii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hyperlink" Target="http://bensguide.gpo.gov/3-5/state/hawaii.html" TargetMode="External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postcardsfrom.com/t1/000605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/www.postcardsfrom.com/stamp/stamp-hi.html" TargetMode="External"/><Relationship Id="rId5" Type="http://schemas.openxmlformats.org/officeDocument/2006/relationships/image" Target="../media/image13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380880"/>
            <a:ext cx="60390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awaii</a:t>
            </a:r>
            <a:endParaRPr b="0" lang="en-US" sz="1800" spc="1" strike="noStrike">
              <a:ln w="3492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715000" y="4952880"/>
            <a:ext cx="3200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0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029200"/>
            <a:ext cx="2666880" cy="1590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33920" y="55627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0720" y="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2590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awaii So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0/7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50states.com/hawa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tate name: Hawa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Capital: Honolu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Population: 1,211,5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Enter The Union: 50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, August 21, 19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Motto: Ua mau ke ea o ka anio I ka pono (The life of the land is perpetuated in righteous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Nickname: aloha state/ paradise of the pa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Flower: Pua Aloalo (Hibiscus Brackenrid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24480" y="228600"/>
            <a:ext cx="2311560" cy="1541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29200" y="8380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762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51814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are the beautiful plum trees in Hawa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Bird: Nene (Hawaiian Goo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ong: Hawaii Ponoi / Hawaii’s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Meaning behind the name: Place of the gods, with particular reference to the g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Weather: Warm, Tropical, S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3782880" cy="3398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81280" y="5181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48769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This is a picture of the Hawaii state flower the hibisc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00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Hawaii: Map and State Flag"/>
          <p:cNvPicPr/>
          <p:nvPr/>
        </p:nvPicPr>
        <p:blipFill>
          <a:blip r:embed="rId1"/>
          <a:srcRect l="0" t="42112" r="0" b="0"/>
          <a:stretch/>
        </p:blipFill>
        <p:spPr>
          <a:xfrm>
            <a:off x="5029200" y="1752480"/>
            <a:ext cx="3733920" cy="2919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Hawaii: Map and State Flag"/>
          <p:cNvPicPr/>
          <p:nvPr/>
        </p:nvPicPr>
        <p:blipFill>
          <a:blip r:embed="rId2"/>
          <a:srcRect l="0" t="0" r="0" b="60398"/>
          <a:stretch/>
        </p:blipFill>
        <p:spPr>
          <a:xfrm>
            <a:off x="380880" y="304920"/>
            <a:ext cx="3810240" cy="2038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72200" y="1752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Hawa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952880"/>
            <a:ext cx="6477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 Hawaii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ptember 22 20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hawaii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09480" y="2590920"/>
            <a:ext cx="1828800" cy="1663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9320" y="42670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457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his is a picture of the Hawaii fl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97180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his is a picture of some things that you can see in Hawa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5105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This is a picture of the state Hawa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99ccff"/>
            </a:gs>
            <a:gs pos="100000">
              <a:srgbClr val="ff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0" y="279360"/>
            <a:ext cx="7772400" cy="5181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00200" y="5489640"/>
            <a:ext cx="41148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Capitol Honolulu H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9/23/2010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000605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96080" y="2209680"/>
            <a:ext cx="144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is is a picture symbolizing things like palm trees, the island state, and volcanoes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0000cc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© 2000 WriteLine. Hibiscus"/>
          <p:cNvPicPr/>
          <p:nvPr/>
        </p:nvPicPr>
        <p:blipFill>
          <a:blip r:embed="rId1"/>
          <a:stretch/>
        </p:blipFill>
        <p:spPr>
          <a:xfrm>
            <a:off x="228600" y="2286000"/>
            <a:ext cx="1952640" cy="2190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© 2000 WriteLine. Hawaiian Goose"/>
          <p:cNvPicPr/>
          <p:nvPr/>
        </p:nvPicPr>
        <p:blipFill>
          <a:blip r:embed="rId2"/>
          <a:stretch/>
        </p:blipFill>
        <p:spPr>
          <a:xfrm>
            <a:off x="1219320" y="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© 2000 WriteLine. Kukui Candlenut tree"/>
          <p:cNvPicPr/>
          <p:nvPr/>
        </p:nvPicPr>
        <p:blipFill>
          <a:blip r:embed="rId3"/>
          <a:stretch/>
        </p:blipFill>
        <p:spPr>
          <a:xfrm>
            <a:off x="6858000" y="304920"/>
            <a:ext cx="1838160" cy="2190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5800" y="5410080"/>
            <a:ext cx="6705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waii State Stam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9/22/20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ostcardsfrom.com/stamp/stamp-hi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733920" y="1447920"/>
            <a:ext cx="2620800" cy="2805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43400" y="1295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572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This is a picture of the state flower the hibisc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This is two pictures of the state bird the N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2971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his is a picture of the state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44Z</dcterms:created>
  <dc:creator>install</dc:creator>
  <dc:description/>
  <dc:language>en-US</dc:language>
  <cp:lastModifiedBy>install</cp:lastModifiedBy>
  <dcterms:modified xsi:type="dcterms:W3CDTF">2010-10-14T13:19:56Z</dcterms:modified>
  <cp:revision>13</cp:revision>
  <dc:subject/>
  <dc:title>Slide 1</dc:title>
</cp:coreProperties>
</file>